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jpeg" ContentType="image/jpeg"/>
  <Override PartName="/ppt/media/image11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10691813" cy="7559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692000" cy="756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025"/>
          <p:cNvSpPr/>
          <p:nvPr/>
        </p:nvSpPr>
        <p:spPr>
          <a:xfrm>
            <a:off x="0" y="0"/>
            <a:ext cx="10691640" cy="755964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3452760" y="574560"/>
            <a:ext cx="3780000" cy="28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100" spc="-1" strike="noStrike">
                <a:solidFill>
                  <a:srgbClr val="000066"/>
                </a:solidFill>
                <a:latin typeface="Arial Black"/>
              </a:rPr>
              <a:t>Click to move the slide</a:t>
            </a:r>
            <a:endParaRPr b="0" lang="en-US" sz="3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8120" y="3590640"/>
            <a:ext cx="8550360" cy="34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46371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051600" y="0"/>
            <a:ext cx="46353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7181640"/>
            <a:ext cx="463716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6051600" y="7181640"/>
            <a:ext cx="463536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9BA8D-1394-4486-9D51-3FE3E0D101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452760" y="574560"/>
            <a:ext cx="3780000" cy="283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068120" y="3590640"/>
            <a:ext cx="8550360" cy="34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6051600" y="7182000"/>
            <a:ext cx="4635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16888-E7F6-49B0-B17B-EB8C038207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452760" y="574560"/>
            <a:ext cx="3780000" cy="2833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68120" y="3590640"/>
            <a:ext cx="8550360" cy="34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6051600" y="7182000"/>
            <a:ext cx="4635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0230D-48D9-46A8-B71F-398255423D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452760" y="574560"/>
            <a:ext cx="3780000" cy="283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068120" y="3590640"/>
            <a:ext cx="8550360" cy="34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6051600" y="7182000"/>
            <a:ext cx="4635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BCF40-F3DB-4723-9AB2-3A0F890900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452760" y="574560"/>
            <a:ext cx="3780000" cy="283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68120" y="3590640"/>
            <a:ext cx="8550360" cy="34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051600" y="7182000"/>
            <a:ext cx="4635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83A46-D5DD-479E-8A66-7C96F2EDC2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452760" y="574560"/>
            <a:ext cx="3780000" cy="2833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068120" y="3590640"/>
            <a:ext cx="8550360" cy="34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6051600" y="7182000"/>
            <a:ext cx="4635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A5367-2927-4984-B311-D92E21CF51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A285-F2BD-4804-AD74-F8C51665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2360" y="1686960"/>
            <a:ext cx="9491760" cy="57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600" y="2603520"/>
            <a:ext cx="94075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6600" y="4753440"/>
            <a:ext cx="94075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AC1-7039-446B-B53D-43C796EB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2360" y="1686960"/>
            <a:ext cx="9491760" cy="57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600" y="2603520"/>
            <a:ext cx="45907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7360" y="2603520"/>
            <a:ext cx="45907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36600" y="4753440"/>
            <a:ext cx="45907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57360" y="4753440"/>
            <a:ext cx="45907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1F4-EBB8-4B26-A8A6-A7284317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2360" y="1686960"/>
            <a:ext cx="9491760" cy="57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6600" y="2603520"/>
            <a:ext cx="302904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7560" y="2603520"/>
            <a:ext cx="302904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98520" y="2603520"/>
            <a:ext cx="302904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36600" y="4753440"/>
            <a:ext cx="302904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7560" y="4753440"/>
            <a:ext cx="302904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98520" y="4753440"/>
            <a:ext cx="302904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049-021A-4868-B550-78AB8A3A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2360" y="1686960"/>
            <a:ext cx="9491760" cy="57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36600" y="2603520"/>
            <a:ext cx="9407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D23-DFAE-48A5-A145-77CF749E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2360" y="1686960"/>
            <a:ext cx="9491760" cy="57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6600" y="2603520"/>
            <a:ext cx="9407520" cy="41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94A-BD4C-4063-95F4-C59D6742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2360" y="1686960"/>
            <a:ext cx="9491760" cy="57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6600" y="2603520"/>
            <a:ext cx="4590720" cy="41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2603520"/>
            <a:ext cx="4590720" cy="41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126-0DBE-4587-B754-6AC84D74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2360" y="1686960"/>
            <a:ext cx="9491760" cy="57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E69-A48B-4B23-B1F3-2BA67D91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2360" y="1763280"/>
            <a:ext cx="9491760" cy="19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E4F-250B-426B-BA60-827CA90C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360" y="1686960"/>
            <a:ext cx="9491760" cy="57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6600" y="2603520"/>
            <a:ext cx="45907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7360" y="2603520"/>
            <a:ext cx="4590720" cy="41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6600" y="4753440"/>
            <a:ext cx="45907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038-BE35-4953-AA4B-BE57FE05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360" y="1686960"/>
            <a:ext cx="9491760" cy="57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6600" y="2603520"/>
            <a:ext cx="4590720" cy="41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7360" y="2603520"/>
            <a:ext cx="45907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57360" y="4753440"/>
            <a:ext cx="45907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3C6-6914-43CC-A4E8-5F2EEFEE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2360" y="1686960"/>
            <a:ext cx="9491760" cy="573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6600" y="2603520"/>
            <a:ext cx="45907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57360" y="2603520"/>
            <a:ext cx="45907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36600" y="4753440"/>
            <a:ext cx="9407520" cy="1963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D96-2584-4ECA-B09F-8D96B6B6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pic8"/>
          <p:cNvPicPr/>
          <p:nvPr/>
        </p:nvPicPr>
        <p:blipFill>
          <a:blip r:embed="rId3"/>
          <a:stretch/>
        </p:blipFill>
        <p:spPr>
          <a:xfrm>
            <a:off x="0" y="1511280"/>
            <a:ext cx="10080720" cy="520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2360" y="1763280"/>
            <a:ext cx="9491760" cy="420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1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6600" y="2603520"/>
            <a:ext cx="9407520" cy="4116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40404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  <a:p>
            <a:pPr lvl="1" marL="819000" indent="-315720">
              <a:spcBef>
                <a:spcPts val="649"/>
              </a:spcBef>
              <a:buClr>
                <a:srgbClr val="40404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  <a:p>
            <a:pPr lvl="2" marL="1260360" indent="-252360">
              <a:spcBef>
                <a:spcPts val="649"/>
              </a:spcBef>
              <a:buClr>
                <a:srgbClr val="404040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  <a:p>
            <a:pPr lvl="3" marL="1763640" indent="-252360">
              <a:spcBef>
                <a:spcPts val="649"/>
              </a:spcBef>
              <a:buClr>
                <a:srgbClr val="404040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  <a:p>
            <a:pPr lvl="4" marL="2268360" indent="-252360">
              <a:spcBef>
                <a:spcPts val="649"/>
              </a:spcBef>
              <a:buClr>
                <a:srgbClr val="404040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  <a:p>
            <a:pPr lvl="5" marL="2268360" indent="-2523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  <a:p>
            <a:pPr lvl="6" marL="2268360" indent="-2523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4CCA5B-C744-4B02-8784-A668BD74E168}" type="slidenum">
              <a:rPr b="0" lang="ru-RU" sz="15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1679400" y="1344600"/>
            <a:ext cx="8401320" cy="0"/>
          </a:xfrm>
          <a:prstGeom prst="line">
            <a:avLst/>
          </a:prstGeom>
          <a:ln w="9360">
            <a:solidFill>
              <a:srgbClr val="eeece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1595520" y="1011240"/>
            <a:ext cx="5040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</a:rPr>
              <a:t>Малый бизнес Киров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1" descr="slogan"/>
          <p:cNvPicPr/>
          <p:nvPr/>
        </p:nvPicPr>
        <p:blipFill>
          <a:blip r:embed="rId4"/>
          <a:stretch/>
        </p:blipFill>
        <p:spPr>
          <a:xfrm>
            <a:off x="7224840" y="252360"/>
            <a:ext cx="2338200" cy="773280"/>
          </a:xfrm>
          <a:prstGeom prst="rect">
            <a:avLst/>
          </a:prstGeom>
          <a:ln w="0">
            <a:noFill/>
          </a:ln>
        </p:spPr>
      </p:pic>
      <p:sp>
        <p:nvSpPr>
          <p:cNvPr id="10" name="Line 12"/>
          <p:cNvSpPr/>
          <p:nvPr/>
        </p:nvSpPr>
        <p:spPr>
          <a:xfrm>
            <a:off x="0" y="7056360"/>
            <a:ext cx="6635880" cy="0"/>
          </a:xfrm>
          <a:prstGeom prst="line">
            <a:avLst/>
          </a:prstGeom>
          <a:ln w="9360">
            <a:solidFill>
              <a:srgbClr val="eeece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dmurtlift.ru/data/gallery/0000000025_s.jpg" TargetMode="External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00" y="1908000"/>
            <a:ext cx="10080720" cy="288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ГОСУДАРСТВЕННАЯ ПОДДЕРЖКА В РАМКАХ ПРОГРАММЫ ПОДДЕРЖКИ И РАЗВИТИЯ МАЛОГО И СРЕДНЕГО ПРЕДПРИНИМАТЕЛЬСТВА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5148360"/>
            <a:ext cx="1008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КРЯЖЕВА НАТАЛЬЯ МИХАЙЛ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начальник отдела поддержки предпринимательств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департамента развития предпринимательства и торгов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Киров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-2127240" y="5356080"/>
            <a:ext cx="2192400" cy="16448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585800"/>
            <a:ext cx="10080720" cy="611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НА ПОЛУЧЕНИЕ СУБСИДИИ ИМЕЮТ ПРАВО СМП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65360" y="2484360"/>
            <a:ext cx="8415360" cy="1656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ЗАКЛЮЧИВШИЕ ДОГОВОРЫ ЛИЗИНГА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НЕ РАНЕЕ 1 ОКТЯБРЯ 2012 ГОДА 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ОСНОВНЫЕ СРЕДСТВА, ПРИОБРЕТАЕМЫЕ ПО ДОГОВОРУ ЛИЗИНГА, ДОЛЖНЫ ИСПОЛЬЗОВАТЬСЯ ДЛЯ ОСУЩЕСТВЛЕНИЯ ПРЕДПРИНИМАТЕЛЬСКОЙ ДЕЯТЕЛЬНОСТИ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-2016000" y="3203640"/>
            <a:ext cx="1860480" cy="1490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1727280" y="5207040"/>
            <a:ext cx="83296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ПРИОБРЕТАЮЩИМ ЛЕГКОВЫЕ АВТОМОБИЛИ И АВТОМОБИЛИ С ТИПОМ КУЗОВА «ПИКАП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ПРИОБРЕТАЮЩИМ ИМУЩЕСТВО СО СРОКОМ ПОЛЕЗНОГО ИСПОЛЬЗОВАНИЯ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МЕНЕЕ 2-Х Л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ОСУЩЕСТВЛЯЮЩИМ ДЕЯТЕЛЬНОСТЬ В СФЕРЕ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ОПТОВОЙ И РОЗНИЧНОЙ ТОРГОВ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-27000" y="4211640"/>
            <a:ext cx="1008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СУБСИДИИ НЕ ПРЕДОСТАВЛЯЮТСЯ СМ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7" descr="C:\Documents and Settings\polyaeva_es\Мои документы\Мои рисунки\10280408_s.jpg"/>
          <p:cNvPicPr/>
          <p:nvPr/>
        </p:nvPicPr>
        <p:blipFill>
          <a:blip r:embed="rId3"/>
          <a:stretch/>
        </p:blipFill>
        <p:spPr>
          <a:xfrm>
            <a:off x="-12600" y="1855800"/>
            <a:ext cx="2192400" cy="2571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http://www.clker.com/cliparts/3/7/1/3/1194984910785474358stop_sign_miguel_s_nchez_.svg.med.png"/>
          <p:cNvPicPr/>
          <p:nvPr/>
        </p:nvPicPr>
        <p:blipFill>
          <a:blip r:embed="rId4"/>
          <a:stretch/>
        </p:blipFill>
        <p:spPr>
          <a:xfrm>
            <a:off x="88920" y="5391000"/>
            <a:ext cx="157644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C:\Documents and Settings\polyaeva_es\Мои документы\Мои рисунки\709.jpg"/>
          <p:cNvPicPr/>
          <p:nvPr/>
        </p:nvPicPr>
        <p:blipFill>
          <a:blip r:embed="rId1"/>
          <a:srcRect l="5189" t="15517" r="4087" b="13727"/>
          <a:stretch/>
        </p:blipFill>
        <p:spPr>
          <a:xfrm>
            <a:off x="27000" y="2124000"/>
            <a:ext cx="3784680" cy="2954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452600"/>
            <a:ext cx="10080720" cy="504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ВИДЫ И РАЗМЕРЫ СУБСИДИЙ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9360" y="6300720"/>
            <a:ext cx="10090080" cy="433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 Black"/>
                <a:ea typeface="Arial"/>
              </a:rPr>
              <a:t>(СПРАВОЧНО: НА 19.09.2013  СТАВКА РЕФИНАНСИРОВАНИЯ СОСТАВЛЯЕТ 8,25%)</a:t>
            </a:r>
            <a:endParaRPr b="0" lang="en-US" sz="1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782880" y="2266920"/>
            <a:ext cx="62978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СУБСИДИРОВАНИЕ ЧАСТИ ЕЖЕМЕСЯЧНЫХ ЛИЗИНГОВЫХ ПЛАТЕЖЕЙ, ПРЕДУСМОТРЕННЫХ ДОГОВОРОМ ЛИЗИНГА. РАЗМЕР СУБСИДИИ –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2/3 СТАВКИ РЕФИНАНСИРОВАНИЯ ЦБ РФ ОТ ЕЖЕМЕСЯЧНЫХ ЛИЗИНГОВЫХ ПЛАТЕЖ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1"/>
          <p:cNvSpPr/>
          <p:nvPr/>
        </p:nvSpPr>
        <p:spPr>
          <a:xfrm>
            <a:off x="144360" y="4791240"/>
            <a:ext cx="99345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ПРЕДОСТАВЛЕНИЕ НАЧИНАЮЩИМ ПРЕДПРИНИМАТЕЛЯМ ГРАНТОВ    НА ОПЛАТУ АВАНСОВОГО ПЛАТЕЖА ПО ДОГОВОРУ ЛИЗИНГА.          РАЗМЕР ГРАНТА –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87% ОТ РАЗМЕРА АВАНСОВОГО ПЛАТЕЖ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3798720" y="3990960"/>
            <a:ext cx="62676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СУБСИДИРОВАНИЕ АВАНСОВОГО ПЛАТЕЖА ПО ДОГОВОРУ ЛИЗИНГА.      РАЗМЕР СУБСИДИИ –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100% ЗАТРАТ СМ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332000"/>
            <a:ext cx="10080720" cy="79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РЕБОВАНИЯ,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БЯЗАТЕЛЬНЫЕ К ИСПОЛНЕНИЮ СМП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87280" y="2266560"/>
            <a:ext cx="7993080" cy="4465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СОХРАНЕНИЕ РАБОЧИХ МЕСТ В ТЕЧЕНИЕ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6 МЕСЯЦЕВ   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С ДАТЫ ПОЛУЧЕНИЯ СУБСИДИИ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СРЕДНИЙ РАЗМЕР ОПЛАТЫ ТРУДА У НАЕМНЫХ РАБОТНИКОВ В СФЕРЕ СЕЛЬСКОГО ХОЗЯЙСТВА СМП      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НЕ НИЖЕ ПРОЖИТОЧНОГО МИНИМУМА  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НА ДУШУ НАСЕЛЕНИЯ, ДЕЙСТВУЮЩЕГО НА ДАТУ ПОДАЧИ ДОКУМЕНТОВ ДЛЯ ПОЛУЧЕНИЯ СУБСИДИИ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200" spc="-1" strike="noStrike">
              <a:solidFill>
                <a:srgbClr val="404040"/>
              </a:solidFill>
              <a:latin typeface="Times New Roman"/>
            </a:endParaRPr>
          </a:p>
          <a:p>
            <a:pPr marL="376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ОТСУТСТВИЕ У СМП ЗАДОЛЖЕННОСТИ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 ПО ПЛАТЕЖАМ ВО ВСЕ УРОВНИ БЮДЖЕТА И БЮДЖЕТЫ ГОСУДАРСТВЕННЫХ ВНЕБЮДЖЕТНЫХ ФОНДОВ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ОТСУТСТВИЕ У СМП ЗАДОЛЖЕННОСТИ ПЕРЕД НАЕМНЫМИ РАБОТНИКАМИ ПО ВЫПЛАТЕ ЗАРАБОТНОЙ ПЛАТЫ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85680" y="43560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MCj04413160000[1]"/>
          <p:cNvPicPr/>
          <p:nvPr/>
        </p:nvPicPr>
        <p:blipFill>
          <a:blip r:embed="rId2"/>
          <a:stretch/>
        </p:blipFill>
        <p:spPr>
          <a:xfrm>
            <a:off x="473040" y="59277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2087640" y="4572000"/>
            <a:ext cx="77086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  <a:ea typeface="Arial"/>
              </a:rPr>
              <a:t>(СПРАВОЧНО: НА 19.09.2013 ДАННАЯ ВЕЛИЧИНА СОСТАВЛЯЕТ 6 509 РУБЛЕ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C:\Documents and Settings\polyaeva_es\Мои документы\Мои рисунки\Год Предпринмателя\Worker_Vector_Character_Big.jpg"/>
          <p:cNvPicPr/>
          <p:nvPr/>
        </p:nvPicPr>
        <p:blipFill>
          <a:blip r:embed="rId3"/>
          <a:stretch/>
        </p:blipFill>
        <p:spPr>
          <a:xfrm>
            <a:off x="47520" y="2095560"/>
            <a:ext cx="22194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0" y="1768320"/>
            <a:ext cx="8856720" cy="649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ГРАНИЧЕНИЯ В ПРЕДОСТАВЛЕНИИ СУБСИДИЙ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4360" y="2700360"/>
            <a:ext cx="9936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Aft>
                <a:spcPts val="2401"/>
              </a:spcAft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ПО ОДНОМУ ДОГОВОРУ ЛИЗИНГА СМП МОЖЕТ ВОСПОЛЬЗОВАТЬСЯ ТОЛЬКО ОДНИМ ИЗ ВЫШЕУКАЗАННЫХ ВИДОВ СУБСИД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Aft>
                <a:spcPts val="2401"/>
              </a:spcAft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В ТЕЧЕНИЕ ОДНОГО ФИНАНСОВОГО ГОДА СМП МОЖЕТ ПОЛУЧИТЬ СУБСИДИЮ НЕ БОЛЕЕ ЧЕМ ПО ТРЁМ ДОГОВОРАМ ЛИЗИН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Aft>
                <a:spcPts val="2401"/>
              </a:spcAft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МАКСИМАЛЬНЫЙ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РАЗМЕР СУБСИДИИ (ГРАНТА) 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СМП, ПРИОБРЕТАЮЩЕМ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3280" indent="-34308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ОБОРУДОВАНИЕ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- 500 ТЫС. 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3280" indent="-34308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АВТОТРАНСПОРТ, РАЗРЕШЕННАЯ МАКСИМАЛЬНАЯ МАССА КОТОРОГО БОЛЕЕ 3500 КГ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– 300 ТЫС. 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3280" indent="-34308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АВТОТРАНСПОРТ, РАЗРЕШЕННАЯ МАКСИМАЛЬНАЯ МАССА КОТОРОГО МЕНЕЕ 3500 КГ</a:t>
            </a:r>
            <a:r>
              <a:rPr b="0" lang="ru-RU" sz="1800" spc="-1" strike="noStrike">
                <a:solidFill>
                  <a:srgbClr val="0000cc"/>
                </a:solidFill>
                <a:latin typeface="Arial Black"/>
                <a:ea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– 200 ТЫС. 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90000"/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8" descr="http://thumb9.shutterstock.com/thumb_small/169/169,1188284744,8/stock-vector-stop-sign-4906747.jpg"/>
          <p:cNvPicPr/>
          <p:nvPr/>
        </p:nvPicPr>
        <p:blipFill>
          <a:blip r:embed="rId1"/>
          <a:srcRect l="0" t="0" r="9195" b="0"/>
          <a:stretch/>
        </p:blipFill>
        <p:spPr>
          <a:xfrm>
            <a:off x="144360" y="1474920"/>
            <a:ext cx="126684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120" y="1474560"/>
            <a:ext cx="10080360" cy="711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ДОКУМЕНТЫ, НЕОБХОДИМЫЕ ДЛЯ ПОЛУЧЕНИЯ СУБСИДИИ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2781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400" spc="-1" strike="noStrike">
              <a:solidFill>
                <a:srgbClr val="40404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404040"/>
              </a:buClr>
              <a:buFont typeface="Times New Roman"/>
              <a:buChar char="-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40404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600" spc="-1" strike="noStrike">
              <a:solidFill>
                <a:srgbClr val="40404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600" spc="-1" strike="noStrike">
              <a:solidFill>
                <a:srgbClr val="40404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600" spc="-1" strike="noStrike">
              <a:solidFill>
                <a:srgbClr val="40404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600" spc="-1" strike="noStrike">
              <a:solidFill>
                <a:srgbClr val="40404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600" spc="-1" strike="noStrike">
              <a:solidFill>
                <a:srgbClr val="404040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6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1280" y="2011320"/>
            <a:ext cx="889344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</a:rPr>
              <a:t>ЗАЯВЛ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</a:rPr>
              <a:t>АНК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</a:rPr>
              <a:t>ТЕХНИКО-ЭКОНОМИЧЕСКОЕ ОБОСНОВАНИЕ ПРОЕКТА, СВЯЗАННОГО С ПРИВЛЕЧЕНИЕМ ЛИЗИН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</a:rPr>
              <a:t>КОПИЯ ДОГОВОРА ФИНАНСОВОЙ АРЕНДЫ (ЛИЗИНГА) С ПРИЛОЖЕНИЕМ ГРАФИКА ПОГАШЕНИЯ АВАНСОВЫХ ПЛАТЕЖЕЙ (ИЛИ ПРОЦЕНТОВ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</a:rPr>
              <a:t>КОПИЯ ПАСПОРТА ТРАНСПОРТНОГО СРЕДСТВА </a:t>
            </a:r>
            <a:br>
              <a:rPr sz="1800"/>
            </a:br>
            <a:r>
              <a:rPr b="0" lang="ru-RU" sz="1800" spc="-1" strike="noStrike">
                <a:solidFill>
                  <a:srgbClr val="10253f"/>
                </a:solidFill>
                <a:latin typeface="Arial Black"/>
              </a:rPr>
              <a:t>(В СЛУЧАЕ ПРИОБРЕТЕНИЯ АВТОТРАНСПОРТ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ЫПИСКА ИЗ ЕГРИП ИЛИ ЕГРЮ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ПРАВКА ОБ ОТСУТСТВИИ ЗАДОЛЖЕННОСТ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 НАЛОГОВЫМ ПЛАТЕЖ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ПРАВКА ОБ ОТСУТСТВИИ ЗАДОЛЖЕННОСТ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 ВЗНОСАМ ПЕНСИОННЫЙ ФОН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ПРАВКА ОБ ОТСУТСТВИИ ЗАДОЛЖЕННОСТ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 ВЗНОСАМ В ФОНД СОЦИАЛЬНОГО СТРАХ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SzPct val="150000"/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ПИЯ РАСЧЕТНОЙ ВЕДОМОСТИ (ФОРМА 4-ФСС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авая фигурная скобка 6"/>
          <p:cNvSpPr/>
          <p:nvPr/>
        </p:nvSpPr>
        <p:spPr>
          <a:xfrm>
            <a:off x="7067520" y="4859280"/>
            <a:ext cx="432000" cy="2521080"/>
          </a:xfrm>
          <a:custGeom>
            <a:avLst/>
            <a:gdLst>
              <a:gd name="textAreaLeft" fmla="*/ 0 w 432000"/>
              <a:gd name="textAreaRight" fmla="*/ 155880 w 432000"/>
              <a:gd name="textAreaTop" fmla="*/ 66960 h 2521080"/>
              <a:gd name="textAreaBottom" fmla="*/ 245412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18"/>
                  <a:pt x="10800" y="1836"/>
                </a:cubicBezTo>
                <a:lnTo>
                  <a:pt x="10800" y="8882"/>
                </a:lnTo>
                <a:cubicBezTo>
                  <a:pt x="10800" y="9800"/>
                  <a:pt x="16200" y="10718"/>
                  <a:pt x="21600" y="10718"/>
                </a:cubicBezTo>
                <a:cubicBezTo>
                  <a:pt x="16200" y="10718"/>
                  <a:pt x="10800" y="11636"/>
                  <a:pt x="10800" y="12554"/>
                </a:cubicBezTo>
                <a:lnTo>
                  <a:pt x="10800" y="19764"/>
                </a:lnTo>
                <a:cubicBezTo>
                  <a:pt x="10800" y="20682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  <a:effectLst>
            <a:outerShdw dist="50760" dir="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7561440" y="4859280"/>
            <a:ext cx="251928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ЕСЛИ СМП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НЕ ПРЕДСТАВИЛ ДАННЫЕ ДОКУМЕНТ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  <a:ea typeface="Arial"/>
              </a:rPr>
              <a:t>ТО ДРПИТ САМОСТОЯТЕЛЬНО ПОЛУЧАЕТ ИХ ЧЕРЕЗ </a:t>
            </a:r>
            <a:r>
              <a:rPr b="0" lang="ru-RU" sz="1600" spc="-1" strike="noStrike">
                <a:solidFill>
                  <a:srgbClr val="ff0000"/>
                </a:solidFill>
                <a:latin typeface="Arial Black"/>
                <a:ea typeface="Arial"/>
              </a:rPr>
              <a:t>СМЭ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468440"/>
            <a:ext cx="10080720" cy="1047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ОРЯДОК ПРЕДОСТАВЛЕНИЯ СУБСИДИЙ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НА ВОЗМЕЩЕНИЕ ЗАТРАТ ПО ДОГОВОРАМ ФИНАНСОВОЙ АРЕНДЫ (ЛИЗИНГА)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147" name="Группа 4"/>
          <p:cNvGrpSpPr/>
          <p:nvPr/>
        </p:nvGrpSpPr>
        <p:grpSpPr>
          <a:xfrm>
            <a:off x="0" y="2316240"/>
            <a:ext cx="9987120" cy="4851720"/>
            <a:chOff x="0" y="2316240"/>
            <a:chExt cx="9987120" cy="4851720"/>
          </a:xfrm>
        </p:grpSpPr>
        <p:grpSp>
          <p:nvGrpSpPr>
            <p:cNvPr id="148" name="Группа 2"/>
            <p:cNvGrpSpPr/>
            <p:nvPr/>
          </p:nvGrpSpPr>
          <p:grpSpPr>
            <a:xfrm>
              <a:off x="0" y="2316240"/>
              <a:ext cx="9987120" cy="4606200"/>
              <a:chOff x="0" y="2316240"/>
              <a:chExt cx="9987120" cy="4606200"/>
            </a:xfrm>
          </p:grpSpPr>
          <p:pic>
            <p:nvPicPr>
              <p:cNvPr id="149" name="Picture 22" descr=""/>
              <p:cNvPicPr/>
              <p:nvPr/>
            </p:nvPicPr>
            <p:blipFill>
              <a:blip r:embed="rId1"/>
              <a:stretch/>
            </p:blipFill>
            <p:spPr>
              <a:xfrm>
                <a:off x="3012120" y="2521080"/>
                <a:ext cx="1087920" cy="134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4"/>
              <p:cNvSpPr/>
              <p:nvPr/>
            </p:nvSpPr>
            <p:spPr>
              <a:xfrm>
                <a:off x="0" y="3933720"/>
                <a:ext cx="1736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СМП ЗАКЛЮЧАЕТ ДОГОВОР ЛИЗИНГА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AutoShape 5"/>
              <p:cNvSpPr/>
              <p:nvPr/>
            </p:nvSpPr>
            <p:spPr>
              <a:xfrm>
                <a:off x="1670040" y="2892960"/>
                <a:ext cx="899280" cy="518400"/>
              </a:xfrm>
              <a:custGeom>
                <a:avLst/>
                <a:gdLst>
                  <a:gd name="textAreaLeft" fmla="*/ 165960 w 899280"/>
                  <a:gd name="textAreaRight" fmla="*/ 733320 w 899280"/>
                  <a:gd name="textAreaTop" fmla="*/ 129600 h 518400"/>
                  <a:gd name="textAreaBottom" fmla="*/ 388800 h 518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3626" y="5400"/>
                    </a:lnTo>
                    <a:lnTo>
                      <a:pt x="13626" y="0"/>
                    </a:lnTo>
                    <a:lnTo>
                      <a:pt x="21600" y="10800"/>
                    </a:lnTo>
                    <a:lnTo>
                      <a:pt x="13626" y="21600"/>
                    </a:lnTo>
                    <a:lnTo>
                      <a:pt x="13626" y="16200"/>
                    </a:lnTo>
                    <a:lnTo>
                      <a:pt x="0" y="16200"/>
                    </a:lnTo>
                    <a:lnTo>
                      <a:pt x="3987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"/>
              <p:cNvSpPr/>
              <p:nvPr/>
            </p:nvSpPr>
            <p:spPr>
              <a:xfrm>
                <a:off x="2592360" y="3878280"/>
                <a:ext cx="1928880" cy="5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СМП ПРИНОСИТ ПАКЕТ ДОКУМЕНТОВ В ДЕПАРТАМЕНТ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Text Box 8"/>
              <p:cNvSpPr/>
              <p:nvPr/>
            </p:nvSpPr>
            <p:spPr>
              <a:xfrm>
                <a:off x="6239160" y="3770280"/>
                <a:ext cx="192708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ДОКУМЕНТЫ РАССМАТРИВАЮТСЯ НА СПЕЦИАЛЬНОЙ КОМИССИИ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9"/>
              <p:cNvSpPr/>
              <p:nvPr/>
            </p:nvSpPr>
            <p:spPr>
              <a:xfrm>
                <a:off x="3230640" y="6132960"/>
                <a:ext cx="2279520" cy="78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С СМП ЗАКЛЮЧАЕТСЯ ДОГОВОР О ПРЕДОСТАВЛЕНИИ СУБСИДИИ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СРОК – </a:t>
                </a:r>
                <a:r>
                  <a:rPr b="1" lang="ru-RU" sz="1000" spc="-1" strike="noStrike">
                    <a:solidFill>
                      <a:srgbClr val="ff0000"/>
                    </a:solidFill>
                    <a:latin typeface="Arial Black"/>
                  </a:rPr>
                  <a:t>5 РАБОЧИХ ДНЕЙ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11"/>
              <p:cNvSpPr/>
              <p:nvPr/>
            </p:nvSpPr>
            <p:spPr>
              <a:xfrm>
                <a:off x="6280200" y="6226560"/>
                <a:ext cx="18381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СМП ОПОВЕЩАЕТСЯ О ПРИНЯТОМ РЕШЕНИИ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13"/>
              <p:cNvSpPr/>
              <p:nvPr/>
            </p:nvSpPr>
            <p:spPr>
              <a:xfrm>
                <a:off x="519120" y="6512400"/>
                <a:ext cx="1446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ПЕРЕЧИСЛЕНИЕ СУБСИДИИ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15"/>
              <p:cNvSpPr/>
              <p:nvPr/>
            </p:nvSpPr>
            <p:spPr>
              <a:xfrm>
                <a:off x="8209080" y="4140360"/>
                <a:ext cx="1778040" cy="716400"/>
              </a:xfrm>
              <a:prstGeom prst="rect">
                <a:avLst/>
              </a:prstGeom>
              <a:noFill/>
              <a:ln w="9360">
                <a:solidFill>
                  <a:srgbClr val="1025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ff0000"/>
                    </a:solidFill>
                    <a:latin typeface="Arial Black"/>
                  </a:rPr>
                  <a:t>РЕШЕНИЕ</a:t>
                </a:r>
                <a:r>
                  <a:rPr b="0" lang="ru-RU" sz="1000" spc="-1" strike="noStrike">
                    <a:solidFill>
                      <a:srgbClr val="ff0000"/>
                    </a:solidFill>
                    <a:latin typeface="Arial Black"/>
                  </a:rPr>
                  <a:t>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buClr>
                    <a:srgbClr val="ff0000"/>
                  </a:buClr>
                  <a:buFont typeface="Wingdings" charset="2"/>
                  <a:buChar char="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ru-RU" sz="1000" spc="-1" strike="noStrike">
                    <a:solidFill>
                      <a:srgbClr val="10253f"/>
                    </a:solidFill>
                    <a:latin typeface="Arial Black"/>
                  </a:rPr>
                  <a:t> </a:t>
                </a: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ПОЛОЖИТЕЛЬНОЕ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624"/>
                  </a:spcBef>
                  <a:buClr>
                    <a:srgbClr val="ff0000"/>
                  </a:buClr>
                  <a:buFont typeface="Wingdings" charset="2"/>
                  <a:buChar char="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 </a:t>
                </a: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ОТРИЦАТЕЛЬНОЕ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AutoShape 16"/>
              <p:cNvSpPr/>
              <p:nvPr/>
            </p:nvSpPr>
            <p:spPr>
              <a:xfrm rot="10800000">
                <a:off x="8334000" y="5292000"/>
                <a:ext cx="1156680" cy="633600"/>
              </a:xfrm>
              <a:custGeom>
                <a:avLst/>
                <a:gdLst>
                  <a:gd name="textAreaLeft" fmla="*/ 259920 w 1156680"/>
                  <a:gd name="textAreaRight" fmla="*/ 896760 w 1156680"/>
                  <a:gd name="textAreaTop" fmla="*/ 158400 h 633600"/>
                  <a:gd name="textAreaBottom" fmla="*/ 475200 h 63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1893" y="5400"/>
                    </a:lnTo>
                    <a:lnTo>
                      <a:pt x="11893" y="0"/>
                    </a:lnTo>
                    <a:lnTo>
                      <a:pt x="21600" y="10800"/>
                    </a:lnTo>
                    <a:lnTo>
                      <a:pt x="11893" y="21600"/>
                    </a:lnTo>
                    <a:lnTo>
                      <a:pt x="11893" y="16200"/>
                    </a:lnTo>
                    <a:lnTo>
                      <a:pt x="0" y="16200"/>
                    </a:lnTo>
                    <a:lnTo>
                      <a:pt x="4854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Rectangle 17"/>
              <p:cNvSpPr/>
              <p:nvPr/>
            </p:nvSpPr>
            <p:spPr>
              <a:xfrm>
                <a:off x="8293320" y="6002640"/>
                <a:ext cx="1298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ОФОРМЛЕНИЕ ПРОТОКОЛА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Text Box 18"/>
              <p:cNvSpPr/>
              <p:nvPr/>
            </p:nvSpPr>
            <p:spPr>
              <a:xfrm>
                <a:off x="4429080" y="2698560"/>
                <a:ext cx="1224000" cy="2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ПРОВЕРКА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Text Box 19"/>
              <p:cNvSpPr/>
              <p:nvPr/>
            </p:nvSpPr>
            <p:spPr>
              <a:xfrm>
                <a:off x="4044960" y="3484440"/>
                <a:ext cx="2254320" cy="25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ru-RU" sz="1000" spc="-1" strike="noStrike">
                    <a:solidFill>
                      <a:srgbClr val="10253f"/>
                    </a:solidFill>
                    <a:latin typeface="Arial Black"/>
                  </a:rPr>
                  <a:t>СРОК – </a:t>
                </a:r>
                <a:r>
                  <a:rPr b="1" lang="ru-RU" sz="1000" spc="-1" strike="noStrike">
                    <a:solidFill>
                      <a:srgbClr val="ff0000"/>
                    </a:solidFill>
                    <a:latin typeface="Arial Black"/>
                  </a:rPr>
                  <a:t>5/15 РАБОЧИХ ДНЕЙ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2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6301440" y="2634480"/>
                <a:ext cx="1796760" cy="111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2316240"/>
                <a:ext cx="1530360" cy="135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6577920" y="4743000"/>
                <a:ext cx="1347120" cy="146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26" descr=""/>
              <p:cNvPicPr/>
              <p:nvPr/>
            </p:nvPicPr>
            <p:blipFill>
              <a:blip r:embed="rId5"/>
              <a:stretch/>
            </p:blipFill>
            <p:spPr>
              <a:xfrm>
                <a:off x="3231360" y="4748040"/>
                <a:ext cx="2279520" cy="142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462960" y="4743000"/>
                <a:ext cx="1505520" cy="163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AutoShape 7"/>
              <p:cNvSpPr/>
              <p:nvPr/>
            </p:nvSpPr>
            <p:spPr>
              <a:xfrm rot="5400000">
                <a:off x="8769240" y="3145680"/>
                <a:ext cx="853200" cy="588600"/>
              </a:xfrm>
              <a:custGeom>
                <a:avLst/>
                <a:gdLst>
                  <a:gd name="textAreaLeft" fmla="*/ 200520 w 853200"/>
                  <a:gd name="textAreaRight" fmla="*/ 652680 w 853200"/>
                  <a:gd name="textAreaTop" fmla="*/ 147240 h 588600"/>
                  <a:gd name="textAreaBottom" fmla="*/ 441720 h 58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1441" y="5400"/>
                    </a:lnTo>
                    <a:lnTo>
                      <a:pt x="11441" y="0"/>
                    </a:lnTo>
                    <a:lnTo>
                      <a:pt x="21600" y="10800"/>
                    </a:lnTo>
                    <a:lnTo>
                      <a:pt x="11441" y="21600"/>
                    </a:lnTo>
                    <a:lnTo>
                      <a:pt x="11441" y="16200"/>
                    </a:lnTo>
                    <a:lnTo>
                      <a:pt x="0" y="16200"/>
                    </a:lnTo>
                    <a:lnTo>
                      <a:pt x="508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ctr">
                <a:noAutofit/>
              </a:bodyPr>
              <a:p>
                <a:pPr>
                  <a:spcBef>
                    <a:spcPts val="601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Прямоугольник 1"/>
            <p:cNvSpPr/>
            <p:nvPr/>
          </p:nvSpPr>
          <p:spPr>
            <a:xfrm>
              <a:off x="6336360" y="4502160"/>
              <a:ext cx="173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10253f"/>
                  </a:solidFill>
                  <a:latin typeface="Arial Black"/>
                </a:rPr>
                <a:t>СРОК – </a:t>
              </a:r>
              <a:r>
                <a:rPr b="0" lang="ru-RU" sz="1000" spc="-1" strike="noStrike">
                  <a:solidFill>
                    <a:srgbClr val="ff0000"/>
                  </a:solidFill>
                  <a:latin typeface="Arial Black"/>
                </a:rPr>
                <a:t>1 РАБОЧИЙ ДЕНЬ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Прямоугольник 2"/>
            <p:cNvSpPr/>
            <p:nvPr/>
          </p:nvSpPr>
          <p:spPr>
            <a:xfrm>
              <a:off x="6073920" y="6789960"/>
              <a:ext cx="22525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000" spc="-1" strike="noStrike">
                  <a:solidFill>
                    <a:srgbClr val="10253f"/>
                  </a:solidFill>
                  <a:latin typeface="Arial Black"/>
                </a:rPr>
                <a:t>СРОК – </a:t>
              </a:r>
              <a:r>
                <a:rPr b="1" lang="ru-RU" sz="1000" spc="-1" strike="noStrike">
                  <a:solidFill>
                    <a:srgbClr val="ff0000"/>
                  </a:solidFill>
                  <a:latin typeface="Arial Black"/>
                </a:rPr>
                <a:t>3 РАБОЧИХ ДН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Прямоугольник 3"/>
            <p:cNvSpPr/>
            <p:nvPr/>
          </p:nvSpPr>
          <p:spPr>
            <a:xfrm>
              <a:off x="379440" y="6921720"/>
              <a:ext cx="167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10253f"/>
                  </a:solidFill>
                  <a:latin typeface="Arial Black"/>
                </a:rPr>
                <a:t>СРОК – </a:t>
              </a:r>
              <a:r>
                <a:rPr b="0" lang="ru-RU" sz="1000" spc="-1" strike="noStrike">
                  <a:solidFill>
                    <a:srgbClr val="ff0000"/>
                  </a:solidFill>
                  <a:latin typeface="Arial Black"/>
                </a:rPr>
                <a:t>3  РАБОЧИХ ДН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AutoShape 5"/>
          <p:cNvSpPr/>
          <p:nvPr/>
        </p:nvSpPr>
        <p:spPr>
          <a:xfrm>
            <a:off x="4660920" y="2894040"/>
            <a:ext cx="898560" cy="517320"/>
          </a:xfrm>
          <a:custGeom>
            <a:avLst/>
            <a:gdLst>
              <a:gd name="textAreaLeft" fmla="*/ 160200 w 898560"/>
              <a:gd name="textAreaRight" fmla="*/ 738360 w 898560"/>
              <a:gd name="textAreaTop" fmla="*/ 129240 h 517320"/>
              <a:gd name="textAreaBottom" fmla="*/ 388080 h 517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91" y="5400"/>
                </a:lnTo>
                <a:lnTo>
                  <a:pt x="13891" y="0"/>
                </a:lnTo>
                <a:lnTo>
                  <a:pt x="21600" y="10800"/>
                </a:lnTo>
                <a:lnTo>
                  <a:pt x="13891" y="21600"/>
                </a:lnTo>
                <a:lnTo>
                  <a:pt x="13891" y="16200"/>
                </a:lnTo>
                <a:lnTo>
                  <a:pt x="0" y="16200"/>
                </a:lnTo>
                <a:lnTo>
                  <a:pt x="385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5"/>
          <p:cNvSpPr/>
          <p:nvPr/>
        </p:nvSpPr>
        <p:spPr>
          <a:xfrm rot="10800000">
            <a:off x="5533560" y="5299200"/>
            <a:ext cx="900360" cy="519120"/>
          </a:xfrm>
          <a:custGeom>
            <a:avLst/>
            <a:gdLst>
              <a:gd name="textAreaLeft" fmla="*/ 160560 w 900360"/>
              <a:gd name="textAreaRight" fmla="*/ 739800 w 900360"/>
              <a:gd name="textAreaTop" fmla="*/ 129600 h 519120"/>
              <a:gd name="textAreaBottom" fmla="*/ 389520 h 51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91" y="5400"/>
                </a:lnTo>
                <a:lnTo>
                  <a:pt x="13891" y="0"/>
                </a:lnTo>
                <a:lnTo>
                  <a:pt x="21600" y="10800"/>
                </a:lnTo>
                <a:lnTo>
                  <a:pt x="13891" y="21600"/>
                </a:lnTo>
                <a:lnTo>
                  <a:pt x="13891" y="16200"/>
                </a:lnTo>
                <a:lnTo>
                  <a:pt x="0" y="16200"/>
                </a:lnTo>
                <a:lnTo>
                  <a:pt x="385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5"/>
          <p:cNvSpPr/>
          <p:nvPr/>
        </p:nvSpPr>
        <p:spPr>
          <a:xfrm rot="10800000">
            <a:off x="2313000" y="5349600"/>
            <a:ext cx="900000" cy="517320"/>
          </a:xfrm>
          <a:custGeom>
            <a:avLst/>
            <a:gdLst>
              <a:gd name="textAreaLeft" fmla="*/ 160560 w 900000"/>
              <a:gd name="textAreaRight" fmla="*/ 739440 w 900000"/>
              <a:gd name="textAreaTop" fmla="*/ 129240 h 517320"/>
              <a:gd name="textAreaBottom" fmla="*/ 388080 h 517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891" y="5400"/>
                </a:lnTo>
                <a:lnTo>
                  <a:pt x="13891" y="0"/>
                </a:lnTo>
                <a:lnTo>
                  <a:pt x="21600" y="10800"/>
                </a:lnTo>
                <a:lnTo>
                  <a:pt x="13891" y="21600"/>
                </a:lnTo>
                <a:lnTo>
                  <a:pt x="13891" y="16200"/>
                </a:lnTo>
                <a:lnTo>
                  <a:pt x="0" y="16200"/>
                </a:lnTo>
                <a:lnTo>
                  <a:pt x="385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293480"/>
            <a:ext cx="10080720" cy="1081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300" spc="-1" strike="noStrike">
                <a:solidFill>
                  <a:srgbClr val="10253f"/>
                </a:solidFill>
                <a:latin typeface="Arial Black"/>
              </a:rPr>
              <a:t>ПОРТАЛ МАЛОГО И СРЕДНЕГО </a:t>
            </a:r>
            <a:br>
              <a:rPr sz="2300"/>
            </a:br>
            <a:r>
              <a:rPr b="0" lang="ru-RU" sz="2300" spc="-1" strike="noStrike">
                <a:solidFill>
                  <a:srgbClr val="10253f"/>
                </a:solidFill>
                <a:latin typeface="Arial Black"/>
              </a:rPr>
              <a:t>ПРЕДПРИНИМАТЕЛЬСТВА</a:t>
            </a:r>
            <a:br>
              <a:rPr sz="2300"/>
            </a:br>
            <a:r>
              <a:rPr b="0" lang="en-US" sz="2300" spc="-1" strike="noStrike">
                <a:solidFill>
                  <a:srgbClr val="ff0000"/>
                </a:solidFill>
                <a:latin typeface="Arial Black"/>
              </a:rPr>
              <a:t>WWW.MBKO.RU</a:t>
            </a:r>
            <a:endParaRPr b="0" lang="en-US" sz="23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rcRect l="0" t="11909" r="0" b="19129"/>
          <a:stretch/>
        </p:blipFill>
        <p:spPr>
          <a:xfrm>
            <a:off x="0" y="2374920"/>
            <a:ext cx="10080720" cy="5184720"/>
          </a:xfrm>
          <a:prstGeom prst="rect">
            <a:avLst/>
          </a:prstGeom>
          <a:ln w="0">
            <a:noFill/>
          </a:ln>
        </p:spPr>
      </p:pic>
      <p:sp>
        <p:nvSpPr>
          <p:cNvPr id="176" name="Овал 4"/>
          <p:cNvSpPr/>
          <p:nvPr/>
        </p:nvSpPr>
        <p:spPr>
          <a:xfrm>
            <a:off x="-1440" y="3348000"/>
            <a:ext cx="230508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44360" y="3149280"/>
            <a:ext cx="4897440" cy="2701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10253f"/>
                </a:solidFill>
                <a:latin typeface="Arial Black"/>
                <a:ea typeface="Arial"/>
              </a:rPr>
              <a:t>610019, 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РОССИЯ, </a:t>
            </a:r>
            <a:r>
              <a:rPr b="0" lang="en-GB" sz="1800" spc="-1" strike="noStrike">
                <a:solidFill>
                  <a:srgbClr val="10253f"/>
                </a:solidFill>
                <a:latin typeface="Arial Black"/>
                <a:ea typeface="Arial"/>
              </a:rPr>
              <a:t>Г. КИРОВ, 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10253f"/>
                </a:solidFill>
                <a:latin typeface="Arial Black"/>
                <a:ea typeface="Arial"/>
              </a:rPr>
              <a:t>УЛ.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 </a:t>
            </a:r>
            <a:r>
              <a:rPr b="0" lang="en-GB" sz="1800" spc="-1" strike="noStrike">
                <a:solidFill>
                  <a:srgbClr val="10253f"/>
                </a:solidFill>
                <a:latin typeface="Arial Black"/>
                <a:ea typeface="Arial"/>
              </a:rPr>
              <a:t>К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АРЛА </a:t>
            </a:r>
            <a:r>
              <a:rPr b="0" lang="en-GB" sz="1800" spc="-1" strike="noStrike">
                <a:solidFill>
                  <a:srgbClr val="10253f"/>
                </a:solidFill>
                <a:latin typeface="Arial Black"/>
                <a:ea typeface="Arial"/>
              </a:rPr>
              <a:t>ЛИБКНЕХТА, 69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10253f"/>
                </a:solidFill>
                <a:latin typeface="Arial Black"/>
                <a:ea typeface="Arial"/>
              </a:rPr>
              <a:t>ТЕЛ.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 (8332) </a:t>
            </a:r>
            <a:r>
              <a:rPr b="0" lang="en-US" sz="1800" spc="-1" strike="noStrike">
                <a:solidFill>
                  <a:srgbClr val="10253f"/>
                </a:solidFill>
                <a:latin typeface="Arial Black"/>
                <a:ea typeface="Arial"/>
              </a:rPr>
              <a:t>64-96-32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 Black"/>
                <a:ea typeface="Arial"/>
              </a:rPr>
              <a:t>E-MAIL: </a:t>
            </a:r>
            <a:r>
              <a:rPr b="0" lang="en-GB" sz="1800" spc="-1" strike="noStrike">
                <a:solidFill>
                  <a:srgbClr val="10253f"/>
                </a:solidFill>
                <a:latin typeface="Arial Black"/>
                <a:ea typeface="Arial"/>
              </a:rPr>
              <a:t>BUSINESS@</a:t>
            </a:r>
            <a:r>
              <a:rPr b="0" lang="en-US" sz="1800" spc="-1" strike="noStrike">
                <a:solidFill>
                  <a:srgbClr val="10253f"/>
                </a:solidFill>
                <a:latin typeface="Arial Black"/>
                <a:ea typeface="Arial"/>
              </a:rPr>
              <a:t>AKO.KIROV</a:t>
            </a:r>
            <a:r>
              <a:rPr b="0" lang="en-GB" sz="1800" spc="-1" strike="noStrike">
                <a:solidFill>
                  <a:srgbClr val="10253f"/>
                </a:solidFill>
                <a:latin typeface="Arial Black"/>
                <a:ea typeface="Arial"/>
              </a:rPr>
              <a:t>.RU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САЙТ: </a:t>
            </a:r>
            <a:r>
              <a:rPr b="0" lang="en-GB" sz="1800" spc="-1" strike="noStrike">
                <a:solidFill>
                  <a:srgbClr val="10253f"/>
                </a:solidFill>
                <a:latin typeface="Arial Black"/>
                <a:ea typeface="Arial"/>
              </a:rPr>
              <a:t>WWW.MBKO.RU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</p:txBody>
      </p:sp>
      <p:pic>
        <p:nvPicPr>
          <p:cNvPr id="178" name="Picture 6" descr="Картинка 24 из 19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5680" y="3127320"/>
            <a:ext cx="4973400" cy="271296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1"/>
          <p:cNvSpPr/>
          <p:nvPr/>
        </p:nvSpPr>
        <p:spPr>
          <a:xfrm>
            <a:off x="3240" y="1911240"/>
            <a:ext cx="100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  <a:ea typeface="Arial"/>
              </a:rPr>
              <a:t>ДЕПАРТАМЕНТ РАЗВИТИЯ ПРЕДПРИНИМАТЕЛЬ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  <a:ea typeface="Arial"/>
              </a:rPr>
              <a:t>И ТОРГОВЛИ КИРОВСК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20" y="1474560"/>
            <a:ext cx="10080720" cy="71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КТО ТАКИЕ СУБЪЕКТЫ МАЛОГО И СРЕДНЕГО ПРЕДПРИНИМАТЕЛЬСТВА?</a:t>
            </a:r>
            <a:endParaRPr b="0" lang="en-US" sz="2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603360" y="2124000"/>
            <a:ext cx="947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- ПОТРЕБИТЕЛЬСКИЕ КООПЕРАТИВЫ, КОММЕРЧЕСКИЕ ОРГАНИЗАЦИИ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(ЗА ИСКЛЮЧЕНИЕМ ГОСУДАРСТВЕННЫХ И МУНИЦИПАЛЬНЫХ УНИТАРНЫХ ПРЕДПРИЯТИЙ),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ИНДИВИДУАЛЬНЫЕ ПРЕДПРИНИМАТЕЛИ, КРЕСТЬЯНСКИЕ (ФЕРМЕРСКИЕ) ХОЗЯ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ая соединительная линия 11"/>
          <p:cNvSpPr/>
          <p:nvPr/>
        </p:nvSpPr>
        <p:spPr>
          <a:xfrm>
            <a:off x="360360" y="2306520"/>
            <a:ext cx="0" cy="461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603360" y="3780000"/>
            <a:ext cx="9477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- СРЕДНЯЯ ЧИСЛЕННОСТЬ РАБОТНИКОВ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101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250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ЧЕЛ.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- СРЕДНИЕ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ЕДПРИЯТИЯ                                      ОТ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15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ДО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100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ЧЕЛ.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- МАЛЫЕ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ЕДПРИЯТИЯ 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15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ЧЕЛ.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- МИКРОПРЕДПРИЯТ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603360" y="5580000"/>
            <a:ext cx="9477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800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- ВЫРУЧКА ОТ РЕАЛИЗАЦИИ ТОВАРОВ (РАБОТ, УСЛУГ)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1000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ЛН. РУБ.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– СРЕДНИЕ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ЕДПРИЯТИЯ  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400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ЛН. РУБ.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– МАЛЫЕ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ЕДПРИЯТИЯ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60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ЛН. РУБ.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ИКРОПРЕДПРИЯ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692000"/>
            <a:ext cx="10080720" cy="1135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ЛЬГОТНОЕ КРЕДИТОВАНИЕ ПРЕДПРИНИМАТЕЛЕЙ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03280" y="3130560"/>
            <a:ext cx="2689200" cy="2017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ile_e9eda82"/>
          <p:cNvPicPr/>
          <p:nvPr/>
        </p:nvPicPr>
        <p:blipFill>
          <a:blip r:embed="rId2"/>
          <a:stretch/>
        </p:blipFill>
        <p:spPr>
          <a:xfrm>
            <a:off x="3745080" y="3995640"/>
            <a:ext cx="2776320" cy="1930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legkoe_polushenie_kredita"/>
          <p:cNvPicPr/>
          <p:nvPr/>
        </p:nvPicPr>
        <p:blipFill>
          <a:blip r:embed="rId3"/>
          <a:stretch/>
        </p:blipFill>
        <p:spPr>
          <a:xfrm>
            <a:off x="6972480" y="4140360"/>
            <a:ext cx="2536560" cy="27129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1"/>
          <p:cNvSpPr/>
          <p:nvPr/>
        </p:nvSpPr>
        <p:spPr>
          <a:xfrm>
            <a:off x="3679920" y="2760840"/>
            <a:ext cx="272088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3679920" y="2760840"/>
            <a:ext cx="272088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5"/>
          <p:cNvSpPr/>
          <p:nvPr/>
        </p:nvSpPr>
        <p:spPr>
          <a:xfrm>
            <a:off x="3679920" y="2760840"/>
            <a:ext cx="272088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2736720" y="179280"/>
            <a:ext cx="2358720" cy="157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258920"/>
            <a:ext cx="10080720" cy="936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ТРЕБОВАНИЯ К СМП – ПОТЕНЦИАЛЬНЫМ ЗАЕМЩИКАМ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15760" y="3563640"/>
            <a:ext cx="8351640" cy="92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0000"/>
          </a:bodyPr>
          <a:p>
            <a:pPr indent="194400">
              <a:lnSpc>
                <a:spcPct val="15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Arial"/>
              </a:rPr>
              <a:t>ОТСУТСТВИЕ ЗАДОЛЖЕННОСТИ</a:t>
            </a:r>
            <a:br>
              <a:rPr sz="2000"/>
            </a:br>
            <a:r>
              <a:rPr b="0" lang="ru-RU" sz="2000" spc="-1" strike="noStrike">
                <a:solidFill>
                  <a:srgbClr val="10253f"/>
                </a:solidFill>
                <a:latin typeface="Arial Black"/>
                <a:ea typeface="Arial"/>
              </a:rPr>
              <a:t>ПО НАЛОГОВЫМ И ИНЫМ ОБЯЗАТЕЛЬНЫМ ПЛАТЕЖАМ</a:t>
            </a:r>
            <a:endParaRPr b="0" lang="en-US" sz="2000" spc="-1" strike="noStrike">
              <a:solidFill>
                <a:srgbClr val="40404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-2368440" y="1784520"/>
            <a:ext cx="1990440" cy="1992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goroduspeha.com/wp-content/uploads/2011/11/%D0%B3%D0%B0%D1%80%D0%B0%D0%BD%D1%82%D0%B8%D1%80%D0%BE%D0%B2%D0%B0%D0%BD%D0%BD%D1%8B%D0%B9-%D1%83%D1%81%D0%BF%D0%B5%D1%85_garantirovannyj-uspeh.jpg"/>
          <p:cNvPicPr/>
          <p:nvPr/>
        </p:nvPicPr>
        <p:blipFill>
          <a:blip r:embed="rId3"/>
          <a:srcRect l="10628" t="0" r="9593" b="0"/>
          <a:stretch/>
        </p:blipFill>
        <p:spPr>
          <a:xfrm>
            <a:off x="0" y="3749760"/>
            <a:ext cx="3798720" cy="38098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131760" y="2297160"/>
            <a:ext cx="99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16000">
              <a:lnSpc>
                <a:spcPct val="15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0253f"/>
                </a:solidFill>
                <a:latin typeface="Arial Black"/>
                <a:ea typeface="Arial"/>
              </a:rPr>
              <a:t>ОСУЩЕСТВЛЕНИЕ ПРЕДПРИНИМАТЕЛЬСКОЙ ДЕЯТЕЛЬНОСТИ   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Arial"/>
              </a:rPr>
              <a:t>НЕ МЕНЕЕ 3 МЕСЯЦ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3078000" y="4916520"/>
            <a:ext cx="700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16000">
              <a:lnSpc>
                <a:spcPct val="15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Arial"/>
              </a:rPr>
              <a:t>УСТОЙЧИВОЕ</a:t>
            </a:r>
            <a:r>
              <a:rPr b="0" lang="ru-RU" sz="2000" spc="-1" strike="noStrike">
                <a:solidFill>
                  <a:srgbClr val="10253f"/>
                </a:solidFill>
                <a:latin typeface="Arial Black"/>
                <a:ea typeface="Arial"/>
              </a:rPr>
              <a:t> ФИНАНСОВОЕ ПОЛОЖЕНИЕ </a:t>
            </a:r>
            <a:r>
              <a:rPr b="0" lang="ru-RU" sz="2000" spc="-1" strike="noStrike">
                <a:solidFill>
                  <a:srgbClr val="ff0000"/>
                </a:solidFill>
                <a:latin typeface="Arial Black"/>
                <a:ea typeface="Arial"/>
              </a:rPr>
              <a:t>ПРЕДСТАВЛЕНИЕ ОБЕСПЕЧЕНИЯ </a:t>
            </a:r>
            <a:br>
              <a:rPr sz="2000"/>
            </a:br>
            <a:r>
              <a:rPr b="0" lang="ru-RU" sz="2000" spc="-1" strike="noStrike">
                <a:solidFill>
                  <a:srgbClr val="10253f"/>
                </a:solidFill>
                <a:latin typeface="Arial Black"/>
                <a:ea typeface="Arial"/>
              </a:rPr>
              <a:t>ВОЗВРАТА ПОЛУЧАЕМОГО ЗАЙМА (ЗАЛОГ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474560"/>
            <a:ext cx="10080720" cy="455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ВИДЫ И РАЗМЕРЫ ЛЬГОТНЫХ ЗАЙМОВ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90360" y="2050920"/>
            <a:ext cx="9947520" cy="35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1.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ДО 1 МЛН. РУБЛЕЙ 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(на пополнение оборотных средств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РАЗМЕР ПРОЦЕНТНОЙ СТАВКИ - ОТ 7 ДО 9,5% ГОДОВ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СРОК - ДО 1 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МИНИМАЛЬНЫЙ РАЗМЕР ПРЕДОСТАВЛЯЕМОГО СМП ЗАЛОГА – 70% ОТ РАЗМЕРА ЗАЙ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2. ОТ 500 ТЫС. ДО 2,5 МЛН. РУБЛЕЙ 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(на приобретение основных средств, строительство и реконструкцию коммерческой недвижимост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РАЗМЕР ПРОЦЕНТНОЙ СТАВКИ - ОТ 11,5 ДО 14% ГОДОВ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СРОК - ДО 2 ЛЕ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МИНИМАЛЬНЫЙ РАЗМЕР ПРЕДОСТАВЛЯЕМОГО СМП ЗАЛОГА – 70% ОТ РАЗМЕРА ЗАЙМА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Группа 3"/>
          <p:cNvGrpSpPr/>
          <p:nvPr/>
        </p:nvGrpSpPr>
        <p:grpSpPr>
          <a:xfrm>
            <a:off x="1650960" y="5759280"/>
            <a:ext cx="5327640" cy="1729080"/>
            <a:chOff x="1650960" y="5759280"/>
            <a:chExt cx="5327640" cy="1729080"/>
          </a:xfrm>
        </p:grpSpPr>
        <p:pic>
          <p:nvPicPr>
            <p:cNvPr id="79" name="Rectangle 8" descr=""/>
            <p:cNvPicPr/>
            <p:nvPr/>
          </p:nvPicPr>
          <p:blipFill>
            <a:blip r:embed="rId1"/>
            <a:stretch/>
          </p:blipFill>
          <p:spPr>
            <a:xfrm>
              <a:off x="1650960" y="5759280"/>
              <a:ext cx="5327640" cy="17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Прямоугольник 1"/>
            <p:cNvSpPr/>
            <p:nvPr/>
          </p:nvSpPr>
          <p:spPr>
            <a:xfrm>
              <a:off x="1873080" y="5871960"/>
              <a:ext cx="49183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10253f"/>
                  </a:solidFill>
                  <a:latin typeface="Arial Black"/>
                  <a:ea typeface="Arial"/>
                </a:rPr>
                <a:t>СРОК НАЧИСЛЕНИЯ И УПЛАТЫ ПРОЦЕНТОВ – </a:t>
              </a:r>
              <a:r>
                <a:rPr b="1" lang="ru-RU" sz="1600" spc="-1" strike="noStrike">
                  <a:solidFill>
                    <a:srgbClr val="ff0000"/>
                  </a:solidFill>
                  <a:latin typeface="Arial Black"/>
                  <a:ea typeface="Arial"/>
                </a:rPr>
                <a:t>НЕ РЕЖЕ 1 РАЗА В МЕСЯЦ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10253f"/>
                  </a:solidFill>
                  <a:latin typeface="Arial Black"/>
                  <a:ea typeface="Arial"/>
                </a:rPr>
                <a:t>СРОКИ ВОЗВРАТА «ТЕЛА» ЗАЙМА ОПРЕДЕЛЯЮТСЯ ПО ДОГОВОРЕННОСТИ С ЗАЕМЩИКО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514160"/>
            <a:ext cx="10080720" cy="455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ВИДЫ И РАЗМЕРЫ ЛЬГОТНЫХ ЗАЙМОВ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144360" y="2403360"/>
            <a:ext cx="9637920" cy="38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4.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«БЫСТРЫЙ ОБОРОТ»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  -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ДО 1 МЛН. 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РАЗМЕР ПРОЦЕНТНОЙ СТАВКИ - 8% ГОДОВ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СРОК - ДО 6 МЕСЯЦЕ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РАЗМЕР ПРЕДОСТАВЛЯЕМОГО СМП ЗАЛОГА –100% ОТ РАЗМЕРА ЗАЙ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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5. «СОЦИАЛЬНО-ОРИЕНТИРОВАННЫЙ БИЗНЕС» - ДО 1 МЛН. 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РАЗМЕР ПРОЦЕНТНОЙ СТАВКИ – 5,5% ГОДОВ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СРОК - ДО 1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В ПРИОРИТЕТНУЮ ГРУППУ ЗАЕМЩИКОВ ВКЛЮЧЕНЫ СМП, ОСУЩЕСТВЛЯЮЩИЕ ДЕЯТЕЛЬНОСТЬ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  <a:ea typeface="Arial"/>
              </a:rPr>
              <a:t>В СФЕРЕ С/Х</a:t>
            </a:r>
            <a:r>
              <a:rPr b="0" lang="ru-RU" sz="1800" spc="-1" strike="noStrike">
                <a:solidFill>
                  <a:srgbClr val="10253f"/>
                </a:solidFill>
                <a:latin typeface="Arial Black"/>
                <a:ea typeface="Arial"/>
              </a:rPr>
              <a:t>, ОРГАНИЗУЮЩИЕ СОЦИАЛЬНО-ОРИЕНТИРОВАННЫЙ БИЗНЕС, А ТАК ЖЕ МАЛЫЕ ИННОВАЦИОННЫЕ КОМПАНИИ И РЕЗИДЕНТЫ ПАРКОВЫХ З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6119640" y="2075040"/>
            <a:ext cx="7192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20" y="1455840"/>
            <a:ext cx="10076040" cy="691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ОРЯДОК ПРЕДОСТАВЛЕНИЯ ЛЬГОТНЫХ ЗАЙМОВ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-1440" y="3894120"/>
            <a:ext cx="212220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СМП ПОДАЕ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ДОКУМЕНТЫ В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КОФПМС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19"/>
          <p:cNvSpPr/>
          <p:nvPr/>
        </p:nvSpPr>
        <p:spPr>
          <a:xfrm>
            <a:off x="1955880" y="2484360"/>
            <a:ext cx="1150920" cy="577800"/>
          </a:xfrm>
          <a:custGeom>
            <a:avLst/>
            <a:gdLst>
              <a:gd name="textAreaLeft" fmla="*/ 230400 w 1150920"/>
              <a:gd name="textAreaRight" fmla="*/ 920520 w 115092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942" y="5400"/>
                </a:lnTo>
                <a:lnTo>
                  <a:pt x="12942" y="0"/>
                </a:lnTo>
                <a:lnTo>
                  <a:pt x="21600" y="10800"/>
                </a:lnTo>
                <a:lnTo>
                  <a:pt x="12942" y="21600"/>
                </a:lnTo>
                <a:lnTo>
                  <a:pt x="12942" y="16200"/>
                </a:lnTo>
                <a:lnTo>
                  <a:pt x="0" y="16200"/>
                </a:lnTo>
                <a:lnTo>
                  <a:pt x="43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2589120" y="3691080"/>
            <a:ext cx="325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КОФПМСП ПРОВЕРЯЕТ ДОКУМЕНТЫ 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ПЕРЕДАЕТ ИХ В КОМИТЕТ ПО ЗАЙМА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5757840" y="2484360"/>
            <a:ext cx="1150920" cy="577800"/>
          </a:xfrm>
          <a:custGeom>
            <a:avLst/>
            <a:gdLst>
              <a:gd name="textAreaLeft" fmla="*/ 230400 w 1150920"/>
              <a:gd name="textAreaRight" fmla="*/ 920520 w 115092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942" y="5400"/>
                </a:lnTo>
                <a:lnTo>
                  <a:pt x="12942" y="0"/>
                </a:lnTo>
                <a:lnTo>
                  <a:pt x="21600" y="10800"/>
                </a:lnTo>
                <a:lnTo>
                  <a:pt x="12942" y="21600"/>
                </a:lnTo>
                <a:lnTo>
                  <a:pt x="12942" y="16200"/>
                </a:lnTo>
                <a:lnTo>
                  <a:pt x="0" y="16200"/>
                </a:lnTo>
                <a:lnTo>
                  <a:pt x="432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7142040" y="3716280"/>
            <a:ext cx="24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КОМИТЕТ ПРИНИМАЕТ РЕШЕНИЕ О ВЫДАЧЕ ЗАЙМА ИЛИ ОТКАЗ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7"/>
          <p:cNvSpPr/>
          <p:nvPr/>
        </p:nvSpPr>
        <p:spPr>
          <a:xfrm rot="5400000">
            <a:off x="8148960" y="4561560"/>
            <a:ext cx="432000" cy="360360"/>
          </a:xfrm>
          <a:custGeom>
            <a:avLst/>
            <a:gdLst>
              <a:gd name="textAreaLeft" fmla="*/ 108000 w 432000"/>
              <a:gd name="textAreaRight" fmla="*/ 324000 w 43200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0800" y="5400"/>
                </a:ln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10800" y="16200"/>
                </a:lnTo>
                <a:lnTo>
                  <a:pt x="0" y="16200"/>
                </a:lnTo>
                <a:lnTo>
                  <a:pt x="54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2"/>
          <p:cNvSpPr/>
          <p:nvPr/>
        </p:nvSpPr>
        <p:spPr>
          <a:xfrm>
            <a:off x="7259760" y="6667560"/>
            <a:ext cx="251928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ИНФОРМИРОВАНИЕ СМ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3"/>
          <p:cNvSpPr/>
          <p:nvPr/>
        </p:nvSpPr>
        <p:spPr>
          <a:xfrm rot="10800000">
            <a:off x="6673680" y="5435280"/>
            <a:ext cx="936720" cy="585720"/>
          </a:xfrm>
          <a:custGeom>
            <a:avLst/>
            <a:gdLst>
              <a:gd name="textAreaLeft" fmla="*/ 190080 w 936720"/>
              <a:gd name="textAreaRight" fmla="*/ 746640 w 936720"/>
              <a:gd name="textAreaTop" fmla="*/ 146520 h 585720"/>
              <a:gd name="textAreaBottom" fmla="*/ 439560 h 585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828" y="5400"/>
                </a:lnTo>
                <a:lnTo>
                  <a:pt x="12828" y="0"/>
                </a:lnTo>
                <a:lnTo>
                  <a:pt x="21600" y="10800"/>
                </a:lnTo>
                <a:lnTo>
                  <a:pt x="12828" y="21600"/>
                </a:lnTo>
                <a:lnTo>
                  <a:pt x="12828" y="16200"/>
                </a:lnTo>
                <a:lnTo>
                  <a:pt x="0" y="16200"/>
                </a:lnTo>
                <a:lnTo>
                  <a:pt x="438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5"/>
          <p:cNvSpPr/>
          <p:nvPr/>
        </p:nvSpPr>
        <p:spPr>
          <a:xfrm>
            <a:off x="3989520" y="6559560"/>
            <a:ext cx="251928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ЗАКЛЮЧЕНИЕ ДОГОВО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38"/>
          <p:cNvSpPr/>
          <p:nvPr/>
        </p:nvSpPr>
        <p:spPr>
          <a:xfrm rot="10800000">
            <a:off x="3089160" y="5535360"/>
            <a:ext cx="959040" cy="546120"/>
          </a:xfrm>
          <a:custGeom>
            <a:avLst/>
            <a:gdLst>
              <a:gd name="textAreaLeft" fmla="*/ 227160 w 959040"/>
              <a:gd name="textAreaRight" fmla="*/ 731880 w 959040"/>
              <a:gd name="textAreaTop" fmla="*/ 136440 h 546120"/>
              <a:gd name="textAreaBottom" fmla="*/ 409680 h 546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366" y="5400"/>
                </a:lnTo>
                <a:lnTo>
                  <a:pt x="11366" y="0"/>
                </a:lnTo>
                <a:lnTo>
                  <a:pt x="21600" y="10800"/>
                </a:lnTo>
                <a:lnTo>
                  <a:pt x="11366" y="21600"/>
                </a:lnTo>
                <a:lnTo>
                  <a:pt x="11366" y="16200"/>
                </a:lnTo>
                <a:lnTo>
                  <a:pt x="0" y="16200"/>
                </a:lnTo>
                <a:lnTo>
                  <a:pt x="511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1"/>
          <p:cNvSpPr/>
          <p:nvPr/>
        </p:nvSpPr>
        <p:spPr>
          <a:xfrm>
            <a:off x="182520" y="6586560"/>
            <a:ext cx="284328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ПЕРЕЧИСЛЕНИЕ ДЕНЕГ СМ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2" descr=""/>
          <p:cNvPicPr/>
          <p:nvPr/>
        </p:nvPicPr>
        <p:blipFill>
          <a:blip r:embed="rId1"/>
          <a:stretch/>
        </p:blipFill>
        <p:spPr>
          <a:xfrm>
            <a:off x="474840" y="1992240"/>
            <a:ext cx="120636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"/>
          <p:cNvPicPr/>
          <p:nvPr/>
        </p:nvPicPr>
        <p:blipFill>
          <a:blip r:embed="rId2"/>
          <a:stretch/>
        </p:blipFill>
        <p:spPr>
          <a:xfrm>
            <a:off x="3317760" y="2205000"/>
            <a:ext cx="1800360" cy="1352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2" descr=""/>
          <p:cNvPicPr/>
          <p:nvPr/>
        </p:nvPicPr>
        <p:blipFill>
          <a:blip r:embed="rId3"/>
          <a:stretch/>
        </p:blipFill>
        <p:spPr>
          <a:xfrm>
            <a:off x="7413480" y="21668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3" descr=""/>
          <p:cNvPicPr/>
          <p:nvPr/>
        </p:nvPicPr>
        <p:blipFill>
          <a:blip r:embed="rId4"/>
          <a:stretch/>
        </p:blipFill>
        <p:spPr>
          <a:xfrm>
            <a:off x="7805880" y="509436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4" descr=""/>
          <p:cNvPicPr/>
          <p:nvPr/>
        </p:nvPicPr>
        <p:blipFill>
          <a:blip r:embed="rId5"/>
          <a:stretch/>
        </p:blipFill>
        <p:spPr>
          <a:xfrm>
            <a:off x="4218120" y="5119560"/>
            <a:ext cx="2063520" cy="1290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5" descr=""/>
          <p:cNvPicPr/>
          <p:nvPr/>
        </p:nvPicPr>
        <p:blipFill>
          <a:blip r:embed="rId6"/>
          <a:stretch/>
        </p:blipFill>
        <p:spPr>
          <a:xfrm>
            <a:off x="647640" y="5051520"/>
            <a:ext cx="1657440" cy="14284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1"/>
          <p:cNvSpPr/>
          <p:nvPr/>
        </p:nvSpPr>
        <p:spPr>
          <a:xfrm>
            <a:off x="3216240" y="4098960"/>
            <a:ext cx="200340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СРОК - </a:t>
            </a:r>
            <a:r>
              <a:rPr b="1" lang="ru-RU" sz="1000" spc="-1" strike="noStrike">
                <a:solidFill>
                  <a:srgbClr val="ff0000"/>
                </a:solidFill>
                <a:latin typeface="Arial Black"/>
              </a:rPr>
              <a:t>5 РАБОЧИХ ДНЕ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22"/>
          <p:cNvSpPr/>
          <p:nvPr/>
        </p:nvSpPr>
        <p:spPr>
          <a:xfrm>
            <a:off x="7364520" y="4251240"/>
            <a:ext cx="200340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СРОК - </a:t>
            </a:r>
            <a:r>
              <a:rPr b="1" lang="ru-RU" sz="1000" spc="-1" strike="noStrike">
                <a:solidFill>
                  <a:srgbClr val="ff0000"/>
                </a:solidFill>
                <a:latin typeface="Arial Black"/>
              </a:rPr>
              <a:t>1 РАБОЧИЙ ДЕН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23"/>
          <p:cNvSpPr/>
          <p:nvPr/>
        </p:nvSpPr>
        <p:spPr>
          <a:xfrm>
            <a:off x="4238640" y="6875640"/>
            <a:ext cx="202248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СРОК – </a:t>
            </a:r>
            <a:r>
              <a:rPr b="1" lang="ru-RU" sz="1000" spc="-1" strike="noStrike">
                <a:solidFill>
                  <a:srgbClr val="ff0000"/>
                </a:solidFill>
                <a:latin typeface="Arial Black"/>
              </a:rPr>
              <a:t>5 РАБОЧИХ ДНЕ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24"/>
          <p:cNvSpPr/>
          <p:nvPr/>
        </p:nvSpPr>
        <p:spPr>
          <a:xfrm>
            <a:off x="328680" y="6842160"/>
            <a:ext cx="255096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000" spc="-1" strike="noStrike">
                <a:solidFill>
                  <a:srgbClr val="10253f"/>
                </a:solidFill>
                <a:latin typeface="Arial Black"/>
              </a:rPr>
              <a:t>СРОК – </a:t>
            </a:r>
            <a:r>
              <a:rPr b="1" lang="ru-RU" sz="1000" spc="-1" strike="noStrike">
                <a:solidFill>
                  <a:srgbClr val="ff0000"/>
                </a:solidFill>
                <a:latin typeface="Arial Black"/>
              </a:rPr>
              <a:t>3 РАБОЧИХ ДН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77760" y="167796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6985080" y="5346720"/>
            <a:ext cx="2162160" cy="1773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3"/>
          <a:stretch/>
        </p:blipFill>
        <p:spPr>
          <a:xfrm>
            <a:off x="208080" y="5019840"/>
            <a:ext cx="2825640" cy="2089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332000"/>
            <a:ext cx="10023480" cy="457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БЕСПЕЧЕНИЕ КРЕДИТНОЙ СДЕЛКИ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92160" y="1908000"/>
            <a:ext cx="8188560" cy="3438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</a:rPr>
              <a:t>ОБЕСПЕЧЕНИЕМ КРЕДИТНОЙ СДЕЛКИ МОЖЕТ ВЫСТУПАТЬ ЗАЛОГ ИМУЩЕСТВА И (ИЛИ) ПОРУЧИТЕЛЬСТВО 3-Х ЛИЦ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</a:rPr>
              <a:t>В ЗАЛОГ НЕ ПРИНИМАЕТСЯ ИЗЪЯТОЕ ИЗ ОБОРОТА ИМУЩЕСТВО, ЦЕННЫЕ БУМАГИ, ТОВАРЫ ПРОДОВОЛЬСТВЕННОГО НАЗНАЧЕНИЯ, ТОВАРЫ И СЫРЬЕ НА СКЛАДЕ И В ОБОРОТЕ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</a:rPr>
              <a:t>В ЗАЛОГ МОЖЕТ БЫТЬ ПРИНЯТО ИМУЩЕСТВО, ПРИОБРЕТАЕМОЕ ЗА СЧЕТ СРЕДСТВ ЗАЙМА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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1800" spc="-1" strike="noStrike">
                <a:solidFill>
                  <a:srgbClr val="10253f"/>
                </a:solidFill>
                <a:latin typeface="Arial Black"/>
              </a:rPr>
              <a:t>ОЦЕНКА НЕДВИЖИМОГО ИМУЩЕСТВА ОСУЩЕСТВЛЯЕТСЯ ФОНДОМ САМОСТОЯТЕЛЬНО</a:t>
            </a:r>
            <a:endParaRPr b="0" lang="en-US" sz="1800" spc="-1" strike="noStrike">
              <a:solidFill>
                <a:srgbClr val="404040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3887640" y="5796000"/>
            <a:ext cx="2181240" cy="1500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5"/>
          <a:stretch/>
        </p:blipFill>
        <p:spPr>
          <a:xfrm>
            <a:off x="281160" y="3551400"/>
            <a:ext cx="146520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10080720" cy="79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ЛЬГОТНЫЙ ЛИЗИНГ</a:t>
            </a:r>
            <a:endParaRPr b="0" lang="en-US" sz="44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28600" y="1616040"/>
            <a:ext cx="2521080" cy="1873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7343640" y="5216400"/>
            <a:ext cx="2880000" cy="1727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3"/>
          <a:stretch/>
        </p:blipFill>
        <p:spPr>
          <a:xfrm>
            <a:off x="228600" y="5156280"/>
            <a:ext cx="2305080" cy="1847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http://www.kopal.ru/catalog/JCB_3CX.jpg"/>
          <p:cNvPicPr/>
          <p:nvPr/>
        </p:nvPicPr>
        <p:blipFill>
          <a:blip r:embed="rId4"/>
          <a:stretch/>
        </p:blipFill>
        <p:spPr>
          <a:xfrm>
            <a:off x="6985080" y="1238400"/>
            <a:ext cx="28573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ИСКА</dc:creator>
  <dc:description/>
  <dc:language>en-US</dc:language>
  <cp:lastModifiedBy>kryajea_nm</cp:lastModifiedBy>
  <cp:lastPrinted>2013-08-08T09:26:41Z</cp:lastPrinted>
  <dcterms:modified xsi:type="dcterms:W3CDTF">2013-09-19T05:09:15Z</dcterms:modified>
  <cp:revision>1082</cp:revision>
  <dc:subject/>
  <dc:title>Малый бизнес  Кировской области: приглашение к сотрудничеству  Шаров Сергей Иванович  начальник управления  развития народных промыслов и ремесел  23 марта 2006 г. г. Киров</dc:title>
</cp:coreProperties>
</file>