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A341-A5A1-4661-8EA4-DE390F3D22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8B60-CC3C-4FBC-9FAE-464BF9AD51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688680" y="2761920"/>
            <a:ext cx="548316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5E9570-78C0-49E8-AEBF-77EB4F51D9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0306-8233-4B75-9057-21FA4F2780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8680" y="2761920"/>
            <a:ext cx="548316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CD738B-D94D-4D82-AE1C-FD749F91BA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A58-E3F0-41D9-BBFC-EC00DDCD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F47-B7E7-4C2A-9857-2528F892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BD0-D334-4707-B1AB-E1189D5D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6767-7B8F-4F45-8E10-3A05BE35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22FE-63A6-47FA-8CCB-2416B252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8ECD-206C-476D-B84E-53EDB408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1F1D-6BE2-4795-B11F-5C693FD8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3C67-2AEC-4960-AE44-E35ABAB7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CE68-F67F-4CE8-8586-F4EAEF22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4D7B-A20C-45F5-AB17-683E41E4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C8E2-E2E1-4286-8B81-80B3D92B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2BB-95B0-4948-9664-9874300D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E032-21C9-430A-9520-100CD1CC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F4C5-6C18-4EFA-A778-2D52C47B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544D-54D7-4705-83D8-3EC8DED9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CF57-FA4D-4869-A2F3-68D9C5E9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D949-FDF1-4D72-8448-012B9AA4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32B9EE-511D-418D-A189-9E2A54DB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9712BA-5725-47E5-B4A2-7906C1DB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DE73D-F256-4F48-B2B4-1EDAFC1F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40E1E-02FA-4F51-BAFF-13670742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93D9C-D616-4A24-907F-D98D8863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1C2-0366-4B09-9295-3E42588E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98FB0-E9D0-4E58-ABBC-3D7D35C9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E5D7A-A7B6-47D8-9E2E-1E82C186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6D602-5032-4666-B55C-66DD772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6AA8B-ECA7-401B-8349-2E2D4F5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A454A-E61F-4A1C-9B26-E60E617C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8ED97-4BAF-4863-8650-8EC3DB2B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D3CF86-BF76-42AC-9959-3B840862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E38D3-2006-4D00-A56F-BB3EDC4B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40C7D-26A6-418F-BA92-43F868DD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B7FA2-57EA-4E72-9121-75FFC5A5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177-4D62-4B0A-A6F4-453399C2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AC81E-635F-43D0-BC2A-2795E558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2FCB8-6C29-44AA-81F0-FCA82C98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BDDE9-9E52-44C5-8D72-106F07EC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A521F-1D00-4BB9-8768-FECD23D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F10A6-F040-4DDE-8FB0-607EF868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BE35C-5C14-498D-AFA9-80C7204B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EE7EA8-7793-40AB-9C07-ACB80676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19BD0-D815-4C93-8219-8BEFB743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F3854-7E8A-45CE-96A7-C03F027E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CF59A-26B0-48FB-9328-4284D50F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98A-D0FA-478B-9CB9-2BAA1020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4B215-F1E2-4401-8DF0-2D80F339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084C2-220B-4903-9DDC-FB921737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890F5-D8A0-416B-B22D-7184FB56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554393-4A03-4363-AB02-0A20102D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0A59B-67C7-43B7-8209-5284F20C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C0FEE-7099-4F6B-9F7C-56C00DE7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1BB98-71D9-4DBF-BD89-A3F8B3FE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649E2-4760-449A-ADA6-A91266BB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79A74-9FC7-414F-A83F-AB78B553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AF2BB-D13E-4DED-AD3B-35DBEF2D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2F0-7865-4B08-AE8F-DAB68275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867DD-2603-4F29-A124-FB0804E9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DD129-6A3E-4013-A600-234C0C89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7ED26-7D66-4751-8736-7376FF1E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03689-7DD9-4479-90EF-17CAF524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C0F5-9124-44DC-A5F4-A9333940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B1D6-040E-4389-81FF-5DF92D97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D1520-B8AC-469B-81B9-06C16B76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40499-F8C1-4A23-8FED-69C4FBE4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82E4-36A4-4C69-ADD2-163019D8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B995-7F39-40E6-918C-64AE49BB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D6F-284E-4E48-959C-CDFADCEC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689C3-6ECE-4124-BAD5-F72DD763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0268D-BAE7-448E-B4A4-92353189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6C1E0-C7AD-4847-BF7B-DF6CC95A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481C0-25CA-4CBB-9555-0A933EBA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CD6D8-7E4D-4008-8306-D254BA02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280E7-7F7B-41D0-8F92-5B4AC30D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C2108-AA9C-4266-AB02-5AF31245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FA300-4BCA-48B3-9A4B-534C1323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59E45-91F3-4C7F-B78B-E6B853E4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E0FD5C-1B1C-47DA-BFB7-F95AC80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1F7-3039-40DB-8924-7C4872B0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4DC93-E45A-41E9-AD26-C7008A6D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C7143-C4B9-4F51-B0D0-F6D2FC3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3131D1-8C8B-4703-A057-BF428D1E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03384E-E044-46EF-81DF-CB57B72E9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38D6D0-DE67-496B-940E-E0EAECB1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8ED3D-6709-496E-9D2E-1E3DFDE3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784A9-CF38-4F9E-A341-A05D7F7D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0D9FE-1692-478A-A1A9-9F8B40D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A0040-3C9B-4257-97D9-11268098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15E25-E653-4DF0-B875-854FECF2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6A7-817B-4158-8812-39697D06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7A3AF-653B-44AB-BD3A-F672D759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1E2FA-CCEC-40E6-A366-FF54625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D2726-16C9-4023-BBA6-7045066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94863-8594-4BEB-95DC-B3F650F5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91CD1-6B70-4720-93FC-1ECADBD2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D7B9-4A9A-4BB7-BAAB-C9FB7FE2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80227-BEA9-4FBA-AC39-3ABBA9F77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336D-9F6A-4D9B-ADAA-9D260D63E4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92C9-7785-43B5-AF08-E9A372EE84B1}" type="slidenum"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13C8-31D4-4DC5-A17A-7844D09D1FBE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2568-64BC-4075-BCB0-1E816D1D64A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F574-9CC0-4079-80F1-6AE229B557B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434D-3884-4A87-BC71-972D665402EE}" type="slidenum">
              <a:rPr b="1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3A1D-86DA-4EE5-B0C6-9570C0BA34C2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2A45-694C-4325-BAE0-977891BCD7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3"/>
          <p:cNvSpPr/>
          <p:nvPr/>
        </p:nvSpPr>
        <p:spPr>
          <a:xfrm>
            <a:off x="179280" y="44280"/>
            <a:ext cx="8785440" cy="792360"/>
          </a:xfrm>
          <a:prstGeom prst="roundRect">
            <a:avLst>
              <a:gd name="adj" fmla="val 16667"/>
            </a:avLst>
          </a:prstGeom>
          <a:solidFill>
            <a:srgbClr val="cdc6d7"/>
          </a:solidFill>
          <a:ln w="10080">
            <a:solidFill>
              <a:srgbClr val="8064a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оддержка, предоставленная департаментом сель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а и продовольствия Кировской области сельскохозяйств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им кооперативам с 2009 по 2012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Диаграмма 13" descr=""/>
          <p:cNvPicPr/>
          <p:nvPr/>
        </p:nvPicPr>
        <p:blipFill>
          <a:blip r:embed="rId1"/>
          <a:stretch/>
        </p:blipFill>
        <p:spPr>
          <a:xfrm>
            <a:off x="1090440" y="1103400"/>
            <a:ext cx="674244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3"/>
          <p:cNvSpPr/>
          <p:nvPr/>
        </p:nvSpPr>
        <p:spPr>
          <a:xfrm>
            <a:off x="179280" y="44280"/>
            <a:ext cx="8785440" cy="792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10080">
            <a:solidFill>
              <a:srgbClr val="8064a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оддержка, предоставленная департаментом сель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а и продовольствия Кировской области сельскохозяйств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им кооперативам за 2009 г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Диаграмма 2" descr=""/>
          <p:cNvPicPr/>
          <p:nvPr/>
        </p:nvPicPr>
        <p:blipFill>
          <a:blip r:embed="rId1"/>
          <a:stretch/>
        </p:blipFill>
        <p:spPr>
          <a:xfrm>
            <a:off x="1133640" y="1420920"/>
            <a:ext cx="701676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AutoShape 3"/>
          <p:cNvSpPr/>
          <p:nvPr/>
        </p:nvSpPr>
        <p:spPr>
          <a:xfrm>
            <a:off x="179280" y="44280"/>
            <a:ext cx="8785440" cy="7923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10080">
            <a:solidFill>
              <a:srgbClr val="8064a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оддержка, предоставленная департаментом сель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а и продовольствия Кировской области сельскохозяйств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им кооперативам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Диаграмма 2" descr=""/>
          <p:cNvPicPr/>
          <p:nvPr/>
        </p:nvPicPr>
        <p:blipFill>
          <a:blip r:embed="rId1"/>
          <a:stretch/>
        </p:blipFill>
        <p:spPr>
          <a:xfrm>
            <a:off x="1133640" y="993600"/>
            <a:ext cx="6657840" cy="523116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3"/>
          <p:cNvSpPr/>
          <p:nvPr/>
        </p:nvSpPr>
        <p:spPr>
          <a:xfrm>
            <a:off x="142920" y="0"/>
            <a:ext cx="8785080" cy="7920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10080">
            <a:solidFill>
              <a:srgbClr val="8064a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оддержка, предоставленная департаментом сель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а и продовольствия Кировской области сельскохозяйств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им кооперативам за 2010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3"/>
          <p:cNvSpPr/>
          <p:nvPr/>
        </p:nvSpPr>
        <p:spPr>
          <a:xfrm>
            <a:off x="142920" y="0"/>
            <a:ext cx="8785080" cy="7920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10080">
            <a:solidFill>
              <a:srgbClr val="8064a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оддержка, предоставленная департаментом сель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а и продовольствия Кировской области сельскохозяйств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им кооперативам за 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Диаграмма 3" descr=""/>
          <p:cNvPicPr/>
          <p:nvPr/>
        </p:nvPicPr>
        <p:blipFill>
          <a:blip r:embed="rId1"/>
          <a:stretch/>
        </p:blipFill>
        <p:spPr>
          <a:xfrm>
            <a:off x="1176480" y="993600"/>
            <a:ext cx="67910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Диаграмма 1" descr=""/>
          <p:cNvPicPr/>
          <p:nvPr/>
        </p:nvPicPr>
        <p:blipFill>
          <a:blip r:embed="rId1"/>
          <a:stretch/>
        </p:blipFill>
        <p:spPr>
          <a:xfrm>
            <a:off x="1450800" y="920880"/>
            <a:ext cx="6242400" cy="53467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3"/>
          <p:cNvSpPr/>
          <p:nvPr/>
        </p:nvSpPr>
        <p:spPr>
          <a:xfrm>
            <a:off x="142920" y="0"/>
            <a:ext cx="8785080" cy="7920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10080">
            <a:solidFill>
              <a:srgbClr val="8064a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оддержка, предоставленная департаментом сель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а и продовольствия Кировской области сельскохозяйствен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им кооперативам за 201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214200" y="6280200"/>
            <a:ext cx="8715600" cy="461880"/>
            <a:chOff x="214200" y="6280200"/>
            <a:chExt cx="8715600" cy="461880"/>
          </a:xfrm>
        </p:grpSpPr>
        <p:sp>
          <p:nvSpPr>
            <p:cNvPr id="369" name="Прямая соединительная линия 6"/>
            <p:cNvSpPr/>
            <p:nvPr/>
          </p:nvSpPr>
          <p:spPr>
            <a:xfrm>
              <a:off x="214200" y="6280200"/>
              <a:ext cx="8715600" cy="0"/>
            </a:xfrm>
            <a:prstGeom prst="line">
              <a:avLst/>
            </a:prstGeom>
            <a:ln w="10080">
              <a:solidFill>
                <a:srgbClr val="ea3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Прямоугольник 7"/>
            <p:cNvSpPr/>
            <p:nvPr/>
          </p:nvSpPr>
          <p:spPr>
            <a:xfrm>
              <a:off x="442800" y="6404040"/>
              <a:ext cx="83584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AutoShape 3"/>
          <p:cNvSpPr/>
          <p:nvPr/>
        </p:nvSpPr>
        <p:spPr>
          <a:xfrm>
            <a:off x="179280" y="44280"/>
            <a:ext cx="8785440" cy="792360"/>
          </a:xfrm>
          <a:prstGeom prst="roundRect">
            <a:avLst>
              <a:gd name="adj" fmla="val 16667"/>
            </a:avLst>
          </a:prstGeom>
          <a:solidFill>
            <a:srgbClr val="cdc6d7"/>
          </a:solidFill>
          <a:ln w="10080">
            <a:solidFill>
              <a:srgbClr val="8064a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средств государственной поддержки, предоставленной департамен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го хозяйства и продовольствия Кировской области сельскохозяйстве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им кооперативам с 2009 по 2012 гг. в разрезе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1" descr=""/>
          <p:cNvPicPr/>
          <p:nvPr/>
        </p:nvPicPr>
        <p:blipFill>
          <a:blip r:embed="rId1"/>
          <a:stretch/>
        </p:blipFill>
        <p:spPr>
          <a:xfrm>
            <a:off x="1335240" y="981000"/>
            <a:ext cx="69087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Диаграмма 1" descr=""/>
          <p:cNvPicPr/>
          <p:nvPr/>
        </p:nvPicPr>
        <p:blipFill>
          <a:blip r:embed="rId1"/>
          <a:stretch/>
        </p:blipFill>
        <p:spPr>
          <a:xfrm>
            <a:off x="1090440" y="1182600"/>
            <a:ext cx="6894720" cy="49561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3"/>
          <p:cNvSpPr/>
          <p:nvPr/>
        </p:nvSpPr>
        <p:spPr>
          <a:xfrm>
            <a:off x="142920" y="285840"/>
            <a:ext cx="8785080" cy="792000"/>
          </a:xfrm>
          <a:prstGeom prst="roundRect">
            <a:avLst>
              <a:gd name="adj" fmla="val 16667"/>
            </a:avLst>
          </a:prstGeom>
          <a:solidFill>
            <a:srgbClr val="cdc6d7"/>
          </a:solidFill>
          <a:ln w="10080">
            <a:solidFill>
              <a:srgbClr val="8064a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средств государственной поддержки, предоставленной департамен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го хозяйства и продовольствия Кировской области сельскохозяйстве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им кооперативам с 2009 по 2012 гг. в разрезе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AutoShape 3"/>
          <p:cNvSpPr/>
          <p:nvPr/>
        </p:nvSpPr>
        <p:spPr>
          <a:xfrm>
            <a:off x="179280" y="44280"/>
            <a:ext cx="8785440" cy="792360"/>
          </a:xfrm>
          <a:prstGeom prst="roundRect">
            <a:avLst>
              <a:gd name="adj" fmla="val 16667"/>
            </a:avLst>
          </a:prstGeom>
          <a:solidFill>
            <a:srgbClr val="cdc6d7"/>
          </a:solidFill>
          <a:ln w="10080">
            <a:solidFill>
              <a:srgbClr val="8064a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государственной поддержки, предоставленной департамен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го хозяйства и продовольствия Киров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м потребительским кооперативам по г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Диаграмма 3" descr=""/>
          <p:cNvPicPr/>
          <p:nvPr/>
        </p:nvPicPr>
        <p:blipFill>
          <a:blip r:embed="rId1"/>
          <a:stretch/>
        </p:blipFill>
        <p:spPr>
          <a:xfrm>
            <a:off x="901800" y="920880"/>
            <a:ext cx="72486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14:01:16Z</dcterms:created>
  <dc:creator>as.kozlov</dc:creator>
  <dc:description/>
  <dc:language>en-US</dc:language>
  <cp:lastModifiedBy>Иван</cp:lastModifiedBy>
  <cp:lastPrinted>2013-07-09T12:44:01Z</cp:lastPrinted>
  <dcterms:modified xsi:type="dcterms:W3CDTF">2013-09-18T21:15:16Z</dcterms:modified>
  <cp:revision>102</cp:revision>
  <dc:subject/>
  <dc:title>Слайд 1</dc:title>
</cp:coreProperties>
</file>